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CCB-5FC6-4DCC-A2EC-343D6B71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E5D6-8ACD-4A89-811A-31C47FFD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B5A-7CFD-4C78-849D-D09FD36E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9EE-AF20-4AF5-B150-194A9CEC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7FE-14FD-4649-ADC9-B2D08D48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BDA-7D86-4B57-AC81-F985BE3B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70B-276D-4415-B1F2-5F770B78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82D-27A9-4888-906C-24E1AD03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337-A69D-4D43-8451-E3F44CE8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8A9-F28E-4625-83D7-51F83324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32E-A8A2-46FB-B87A-80B81624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0B8-4846-4B23-95A7-A217C08C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5009-B3D1-4137-BC20-50E7E6D94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terms for B cell in Cel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ly divided into immature and mature sub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us term ‘B cell’ is the parent term for all types of B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cell considered a distinct cell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cell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: CL:0000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B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n immunoglobulin complex." [GOC:add, ISBN:07817351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ct_synonym: "B lymphocyte"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ct_synonym: "B-cell"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ct_synonym: "B-lymphocyte"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lationship: develops_from CL:0000826 ! pro-B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6068880" cy="6369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cel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pro-B cell and late pro-B cells, and pre-pro B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of pre B cell and transitional stage B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B cell sub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34:07Z</dcterms:created>
  <dc:creator>Alexander Diehl</dc:creator>
  <dc:description/>
  <dc:language>en-US</dc:language>
  <cp:lastModifiedBy>Alexander Diehl</cp:lastModifiedBy>
  <dcterms:modified xsi:type="dcterms:W3CDTF">2008-05-13T01:20:43Z</dcterms:modified>
  <cp:revision>11</cp:revision>
  <dc:subject/>
  <dc:title>The Cell Ontology</dc:title>
</cp:coreProperties>
</file>